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8215-DAFE-4964-B7D8-799367A8E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724E-F73B-422C-8653-766C503E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E4FD-8495-4D62-BD87-6C3F5F75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08DF-80E9-4CCB-A866-71DAD14E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CE86-EF96-4A7C-9783-D7C6E160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9251-3C7C-49E7-985D-A26FB1F3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8EAE-B142-44C9-8F50-D59284A7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0A95-209C-4218-A3A4-92E73D7A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9B09-CD72-4655-BCEF-AA35861D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5755-EAEB-416D-97DF-7116CCCA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FCC7-8081-4F9D-9227-6A7D3E58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E509-3468-4584-9DFF-FF4F107A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DF17-645F-41EA-A8A1-6127BCC0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6798-26E4-4222-B784-DF060CD7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B117-6AEB-4B05-969D-052E4777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699A-F7AA-4E4B-A80A-A8AA54BBB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2D2C-01C0-4CBE-877D-2F5481AE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F63A-B595-436A-98D0-FE916A47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5377-1797-4B56-9115-F7F5F9AC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F071-AFA7-462A-9930-B99C3EE3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B7E2-DD9A-4675-9B3A-274D9935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87E3-657C-4ADE-9A32-B79498C9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99CD-A29D-425B-AAC6-B46EE0B5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1E5B-B483-4CB1-A14E-B7BEF520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BC29-338D-4F06-B2F7-A5C3A74B13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8B3D-478E-4562-9AC5-3E771FE27B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Library &amp; Research Skills Proficiency: 5th Grade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a Ro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esley Public Sch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24, 20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ndara"/>
              </a:rPr>
              <a:t>What do you like most about your school library?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82960" y="1793880"/>
            <a:ext cx="4806720" cy="50641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429000" cy="46483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ndara"/>
              </a:rPr>
              <a:t>What do you like most about your school library?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267080" y="533520"/>
            <a:ext cx="4149720" cy="6068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2895840" cy="37339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ndara"/>
              </a:rPr>
              <a:t>What do you like most about your school library?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3622680"/>
            <a:ext cx="4433760" cy="3235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568760" y="152280"/>
            <a:ext cx="457524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Takeaways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highly value their school librarians for their knowledge, helpfulness and approach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appreciate free and frequent access to books and  a wide variety of 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enjoy interactivity: writing book reviews in the catalog and blog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ean, well-organized space with clearly-defined areas is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appreciate using technology: smartboards, laptops, ipads and online catal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The most important thing learned in library?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79520" y="2057400"/>
            <a:ext cx="4584960" cy="3936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The most important thing learned in library?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4978440" cy="2514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590920" y="4495680"/>
            <a:ext cx="5029200" cy="1803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The most important thing learned in library?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266920" y="2286000"/>
            <a:ext cx="4610160" cy="2286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685800" y="4952880"/>
            <a:ext cx="7467480" cy="1191240"/>
          </a:xfrm>
          <a:prstGeom prst="rect">
            <a:avLst/>
          </a:prstGeom>
          <a:solidFill>
            <a:srgbClr val="e8e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ndara"/>
              </a:rPr>
              <a:t>Takeaway: Students find value in each aspect of what we tea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set the familiarity of students with our libraries with expectations for maintaining their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 students to create bibliographies, even when their teacher does not, when they conduct research in the library; choose common citation builder to prepare them for middle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to balance teaching roles: library skills, literature appreciation, research, Internet skills and saf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vey 5th graders across the distric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7 elementary school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gaps in knowledge to inform tea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epare students to meet grade 6 benchm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Participation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24 students participated in proficiency survey I; 72% had attended their elementary school since kindergar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18 students participated in proficiency survey II; 74% had attended their elementary school since kindergar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Results: Library skills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24382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are adept at using the online catalog and selecting search strategi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understand the purpose of a call number but don’t always use their knowledge to find books on shel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3809880"/>
            <a:ext cx="73864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Results: Library skills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24382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82800" y="2103480"/>
            <a:ext cx="742140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Results: Library resources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underst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urpose of an atlas, thesaurus, and glossa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ole of the table of contents and inde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pyright date’s signific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are less familiar with an almanac: 65% (239) answered correctly; 52 students skipped the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Results: Identifying Genre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have solid strategies to identify the genre of a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difference between nonfiction and f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lear on the difference between autobiography and bi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Result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Bibliographies &amp; Citations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are unsure of what constitutes a bibliography and its pur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understand that they must credit their sources and their work must be in their ow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what plagiarism m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Results:  Computer use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ent of the Acceptable Use Policy is 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erging knowledge of strategic Internet searching, evaluation and selection of search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of the following should you do to evaluate a websit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089000" y="4191120"/>
            <a:ext cx="69645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21:09:20Z</dcterms:created>
  <dc:creator>Wellesley Public Schools</dc:creator>
  <dc:description/>
  <dc:language>en-US</dc:language>
  <cp:lastModifiedBy>Wellesley Public Schools</cp:lastModifiedBy>
  <dcterms:modified xsi:type="dcterms:W3CDTF">2013-05-24T02:04:30Z</dcterms:modified>
  <cp:revision>11</cp:revision>
  <dc:subject/>
  <dc:title>Library &amp; Research Skills Proficiency: 5th Grade</dc:title>
</cp:coreProperties>
</file>